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9144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582-A295-448A-B9A4-B68020B4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550764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B71-AC7A-4B21-B47F-5DA2D873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A37-2475-49B0-97C7-19025B65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B30-FE5E-4E7D-A6D3-711992CD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E54-C33E-4847-B53E-42C466C8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0CB-ECE5-4FB0-A74A-94519FD2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E17-1561-4612-A168-E24F8911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33C-7CC4-49AE-AE50-8DD2EE48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812520"/>
            <a:ext cx="6153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EF3-70E9-4CDB-B7E2-BD281631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22D-8A64-4B29-8CCE-808F31A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858-9654-4290-9011-C83B411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335-AE16-44B6-8C83-AB58737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8331120"/>
            <a:ext cx="1508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8331120"/>
            <a:ext cx="2292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8331120"/>
            <a:ext cx="1508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948A-5495-48E3-B479-1CA869FFF37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5029200" y="572616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70102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97120" y="2800440"/>
            <a:ext cx="2232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022720" y="42670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282564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368000" y="426708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368000" y="840096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010120" y="845820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86280" y="554976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0440" y="41338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1920" y="11239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               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29400" y="114300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救援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1920" y="25099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編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2520" y="2859120"/>
            <a:ext cx="78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1920" y="3895560"/>
            <a:ext cx="2897280" cy="698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蒐整及研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600" y="393552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政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  廠  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911760"/>
            <a:ext cx="1258920" cy="576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 料 庫 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一線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25588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51520" y="2521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戒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9304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51520" y="38098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確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1920" y="5289480"/>
            <a:ext cx="2897280" cy="698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與指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0600" y="531504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工研院、環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署 諮 詢 顧 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9400" y="52959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陸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小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51520" y="520056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1920" y="6683400"/>
            <a:ext cx="2897280" cy="698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成作業準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600" y="6694560"/>
            <a:ext cx="1258920" cy="576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央災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29400" y="66801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援中心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現場指揮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28840" y="5302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1920" y="80773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展開應援作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600" y="8074080"/>
            <a:ext cx="1258920" cy="576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災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9400" y="80643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任務部隊馳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部隊增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8840" y="80773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52960" y="812160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52960" y="84265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47680"/>
            <a:ext cx="4665600" cy="60948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超研澤粗楷"/>
              </a:rPr>
              <a:t>毒化災害應變作業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0600" y="2556000"/>
            <a:ext cx="1258920" cy="57600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保署、消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署與地方政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600" y="117648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9400" y="252720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   戰   區  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區責任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51520" y="42242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9280" y="701028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22360" y="6673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1800" y="6661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9440" y="47242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9440" y="61056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00360" y="32767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19440" y="750564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71600" y="5638680"/>
            <a:ext cx="78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57640" y="56833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5:02:09Z</dcterms:created>
  <dc:creator>chem3-3</dc:creator>
  <dc:description/>
  <dc:language>en-US</dc:language>
  <cp:lastModifiedBy>chem3-7</cp:lastModifiedBy>
  <dcterms:modified xsi:type="dcterms:W3CDTF">2001-10-06T07:53:04Z</dcterms:modified>
  <cp:revision>15</cp:revision>
  <dc:subject/>
  <dc:title>PowerPoint 簡報</dc:title>
</cp:coreProperties>
</file>